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857-EDBA-4535-8428-294024443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77DA-B877-4DDE-BB16-689FCF41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00DD-6E11-4AB7-9E6C-E05C38AC8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CA8-E211-4B09-9002-256712EAE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DA17-F259-41DA-A30C-0F525FA9C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43D-1F82-4321-AD84-88917F26E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524-650E-4168-B564-212744C3A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F02-0DB1-4B16-93D2-23597F50C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FF9-B594-4C8E-BFC5-C26AD30F9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65EB-E3B8-4D58-A142-CA34611E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908F-C938-4DD0-965B-898F2814D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07F-55EC-4ED8-9548-82E251C17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1614-D4A0-4917-9E23-2C21AB857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1E3-E722-48BD-B47E-6A5B79FE8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7BE-7C21-45DE-B65D-811ADB293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897-957C-4338-AA87-42FD0593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AE9-216D-40AE-B815-4C1EDEC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4F1-1B49-437F-85B2-26C486B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2B3-D0D6-4703-B09D-55651B72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BDD-7FAB-4E10-B2A5-8E7F3B9A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7276-4461-4746-B045-2219C9CB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65D2-5CC9-4986-84C9-4D039A88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065-3AAD-49CF-848B-F81420F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8BA-FF7A-4FF0-A909-D9C670DE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658-4113-4330-AA8C-0A72AA6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6F83-814D-4F97-A318-BA2380A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D32-D555-4430-98AB-FF6A6D2D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C314-2D90-4034-9171-BEE911D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519-8073-444E-92DA-ECB31AD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443-571F-41DA-9241-A1698A6B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10FE-19DD-46E9-8889-98ADBC1A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5A8-0D93-43F8-B2D6-564B7AA6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FEF9-938B-44B8-85F1-B95C148A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D1DCF-0282-421E-A5F6-D481E8A9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D5501-1EB5-4E81-9D5F-FF561AF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E0210-5913-4AC3-ADAA-D5EEC32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DD8D6-E466-44A9-A351-4007255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A2A-EB92-4F78-B183-7C32559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AA90F-89B5-4163-8C10-61F7027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CBA82-E56E-4E26-BFAA-15FFC40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8E6A3-0279-4B87-B345-1B29CD0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BAA85-8644-4A89-8AD7-EE4AC33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3E9CE-8322-48E3-8A16-0237E79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0D906-F7A7-4337-ADAE-769301C9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67DDE-A7F2-4C38-9D21-B773D068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D3577-7594-4026-AB11-D0E521EA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8B2BC-85B2-4793-883A-357DFD67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92CFE-01AE-414B-B04F-A3AEBD4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E25-804D-460F-9B68-A870D9B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707B7-4A85-4E2A-B6DE-63088DA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367D7-84B2-47A8-B982-F13FEAB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D42EB-43C3-4620-9EDE-9A87AE9B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8B891-B117-485F-81B0-939F283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33BA9-64CC-4CF3-9D14-A6EC59D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28063-B463-45BD-9F66-A929C8C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B6016-B67D-49F4-9D42-6A5045D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63869-3FF2-4F8A-9869-0A998BB1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E7585-C23D-4C22-B2E6-11092379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4EBDD-C18E-44C3-9F90-7F2022C8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833-AA61-47D1-AB76-204C86E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227A1-F53B-47B1-8550-B272340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A9AE9-8CA5-4FB6-ADD5-C29037B3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711D7-BB46-43BF-A09D-59B5ACE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F4319-418B-4AC5-A838-B90748C2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83577-34A8-4B4A-9E4C-40FF8CB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46DCD-A858-4272-A738-AE26812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DA431-98EB-45F8-8B85-D3284BF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7667F-490C-4B5D-AD3A-DF7B179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52CF9-78C6-490E-9534-75447310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92D8D-D3D3-496F-B007-0A9FA13D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236-6687-43AA-A19E-82ACEABD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30461-3F3C-4804-A7DC-D7D1109E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5D684-A0EC-4703-88F5-DD1D7F37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532C-EA23-41B7-BD2B-0B8D090D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B44D3-4354-4DC7-9FBD-BF21793E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ACA3-5705-4A86-B253-88F42E0A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FDC7-8DEB-415C-A870-1D9C85D5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D4F5-82C5-4E04-A36C-115E840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6D54-D5FA-4B64-A941-6D5139F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6BB5-D93A-4385-994F-FECD36B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E1F7-A512-4FF7-A60C-03836ED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28B-58AD-4A0C-BD3A-D24B887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41B3-BC0C-4448-9B7E-9C29A2F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DD67-B269-4010-8B57-3D9912FE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3541-A32E-463C-AA4C-3C11A8AD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4B94C-5D1B-4BBC-B8C5-729906F7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6AA01-4F25-416A-A701-D7DA36EA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C86CA-AFE6-451F-AF97-A97373C6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7FEE7-B0AD-4B40-8B57-FF85D66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D0962-6C62-4AEA-9552-B93B437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2B267-E054-492B-9C47-EBF6A8EC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88DD1-8181-4799-8B76-2C7DCC1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961-E364-4AC4-8835-0E45DFB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A084F-4BD6-4C4B-9D76-D3A2D7DC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41193-F8D7-4DBE-B34D-40F8AC8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8B15F-CCA6-4D46-AA8B-4CD8085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0B50E-76E8-4736-912E-9919BB81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9C8D9-09DC-4FB0-B9F3-E0F8663D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1903-B1AF-4A3E-87BE-32A1DCA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A2CE-54B9-4DF7-9F28-DCF80C3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73B0-050D-4CB8-8831-905CA7A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8F49-75AB-45F4-AE4D-0ADF4CBB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980F-D868-42B9-B5BE-E7141B5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995-EBFA-472C-8EEB-6934895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4CB4-8572-4D4B-B809-C6925803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E410D-5F27-4836-A7AF-73E7AAD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1BDAC-FB5A-4189-9D10-934DB82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4B7D-9F66-4EF1-951D-3FCEE97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77094-8E66-4208-B517-E6B9CAC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5DA5-1255-41D2-A1BA-E08B2C42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E91A-887B-4EBD-8AD8-C8589CDD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7FFA-37CF-43A7-8F51-F4FCDF6CD1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19A-8272-469A-BD16-0530A2100B46}" type="slidenum"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698-02F3-420F-BC26-221047F215C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62F-52D3-4A1F-A3C4-0442BE1B7C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84B-3B3E-46D4-84C7-2F5184ED59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7E69-F959-4EBF-AD93-6799799EE80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02C-5E99-486F-BF54-FF448FCC5ED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1A9-651D-4323-8817-DB39141DB2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4"/>
          <p:cNvSpPr/>
          <p:nvPr/>
        </p:nvSpPr>
        <p:spPr>
          <a:xfrm>
            <a:off x="1572480" y="2971800"/>
            <a:ext cx="604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embers: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Jesille Vir Hoylar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ark Jason Sierras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aria Teresa Louise Tumam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1176840" y="1676520"/>
            <a:ext cx="70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Group 5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MANGANESE IS MORE ABUNDANT IN THE THRE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nganese is relatively abundant, constituting about 0.085% of the Earth's crust. Among the heavy metals, only iron is more abundant. Most manganese occurs in deposits of the oxides, hydrous oxides or carbonate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economist’s view varies both in price and deman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ICE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NGANES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3.99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HOSPHATE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0.00043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AL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0.00018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MAN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GANESE     = Higher demand from industrializ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OSPHATE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Higher demand from agricultu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AL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High demand from both industrialized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agricultural 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10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10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Maria Teresa Louise L. Tumampil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INDUSTRIAL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1272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rom the point of view of the industrialist, mining manganese is a good business because of its abundance, high market value and big demand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82760" y="19810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484200" y="152388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utrasanus.com/mangane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457200" y="24382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bendi.com/indy/ming/mang/p00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457200" y="2895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ciencedaily.com/articles/p/phosphat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theblindedeye.files.wordpress.com/2008/10/strip_coal_mining.jpg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</a:rPr>
              <a:t>Mining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s the work or business of taking minerals from the earth. A hole or tunnel is dug in the ground to take out metals, coal, salt, or other minerals. 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s the extraction of valuable minerals or other geological materials from the earth, usually from an ore body, vein or (coal) seam. 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ome Mining Mineral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63" name="Group 6"/>
          <p:cNvGrpSpPr/>
          <p:nvPr/>
        </p:nvGrpSpPr>
        <p:grpSpPr>
          <a:xfrm>
            <a:off x="901800" y="1676520"/>
            <a:ext cx="3135240" cy="2286000"/>
            <a:chOff x="901800" y="1676520"/>
            <a:chExt cx="3135240" cy="2286000"/>
          </a:xfrm>
        </p:grpSpPr>
        <p:pic>
          <p:nvPicPr>
            <p:cNvPr id="364" name="Picture 2" descr="http://image.made-in-china.com/2f0j00PMfQyguCJVcr/Ferro-Silicon-Manganese.jpg"/>
            <p:cNvPicPr/>
            <p:nvPr/>
          </p:nvPicPr>
          <p:blipFill>
            <a:blip r:embed="rId1"/>
            <a:stretch/>
          </p:blipFill>
          <p:spPr>
            <a:xfrm>
              <a:off x="990720" y="1676520"/>
              <a:ext cx="3046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Box 5"/>
            <p:cNvSpPr/>
            <p:nvPr/>
          </p:nvSpPr>
          <p:spPr>
            <a:xfrm>
              <a:off x="901800" y="3200400"/>
              <a:ext cx="311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Mangane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9"/>
          <p:cNvGrpSpPr/>
          <p:nvPr/>
        </p:nvGrpSpPr>
        <p:grpSpPr>
          <a:xfrm>
            <a:off x="4707720" y="2590920"/>
            <a:ext cx="3188520" cy="2381400"/>
            <a:chOff x="4707720" y="2590920"/>
            <a:chExt cx="3188520" cy="2381400"/>
          </a:xfrm>
        </p:grpSpPr>
        <p:pic>
          <p:nvPicPr>
            <p:cNvPr id="367" name="Picture 4" descr="http://www.mnh.si.edu/earth/text/images/2_0_0_0/2252_screen2.jpg"/>
            <p:cNvPicPr/>
            <p:nvPr/>
          </p:nvPicPr>
          <p:blipFill>
            <a:blip r:embed="rId2"/>
            <a:stretch/>
          </p:blipFill>
          <p:spPr>
            <a:xfrm>
              <a:off x="4724280" y="2590920"/>
              <a:ext cx="317196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Box 8"/>
            <p:cNvSpPr/>
            <p:nvPr/>
          </p:nvSpPr>
          <p:spPr>
            <a:xfrm>
              <a:off x="4707720" y="4267440"/>
              <a:ext cx="313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Phosphat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2"/>
          <p:cNvGrpSpPr/>
          <p:nvPr/>
        </p:nvGrpSpPr>
        <p:grpSpPr>
          <a:xfrm>
            <a:off x="1066680" y="4076640"/>
            <a:ext cx="2971800" cy="2781360"/>
            <a:chOff x="1066680" y="4076640"/>
            <a:chExt cx="2971800" cy="2781360"/>
          </a:xfrm>
        </p:grpSpPr>
        <p:pic>
          <p:nvPicPr>
            <p:cNvPr id="370" name="Picture 6" descr="http://library.thinkquest.org/07aug/01290/Coal.jpg"/>
            <p:cNvPicPr/>
            <p:nvPr/>
          </p:nvPicPr>
          <p:blipFill>
            <a:blip r:embed="rId3"/>
            <a:stretch/>
          </p:blipFill>
          <p:spPr>
            <a:xfrm>
              <a:off x="1066680" y="4076640"/>
              <a:ext cx="297180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Box 11"/>
            <p:cNvSpPr/>
            <p:nvPr/>
          </p:nvSpPr>
          <p:spPr>
            <a:xfrm>
              <a:off x="1864800" y="5715000"/>
              <a:ext cx="127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Co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Jesille Vir Hoylar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GEOLOG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www.pullman-museum.org/main/IndSC-MkngofSteelc1970.jpg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4952880" y="1214280"/>
            <a:ext cx="4191120" cy="5643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MANGANES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NGANESE= 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Manganese is used extensively to produce a variety of important alloys and to desulfurize and deoxidize steel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PHOSPHAT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Inorganic compounds containing phosphorous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Used in fertilizers (as plant nutrient) and in detergents (as 'builders' or water softener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3662280" y="4038480"/>
            <a:ext cx="548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3505320" y="2370240"/>
            <a:ext cx="5638680" cy="44877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al, a fossil fuel, is the largest source of energy for the generation of electricity worldwid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Mark Jason Sierra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ECONOM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8080" y="17524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84680" indent="-184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ich is more abundant among the three given minerals? Manganese, Phosphate or coal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1:51:31Z</dcterms:created>
  <dc:creator>admin</dc:creator>
  <dc:description/>
  <dc:language>en-US</dc:language>
  <cp:lastModifiedBy>TUMAMPIL</cp:lastModifiedBy>
  <dcterms:modified xsi:type="dcterms:W3CDTF">2010-07-10T08:47:27Z</dcterms:modified>
  <cp:revision>45</cp:revision>
  <dc:subject/>
  <dc:title>Group 5 Presentation</dc:title>
</cp:coreProperties>
</file>